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1.png" ContentType="image/png"/>
  <Override PartName="/ppt/media/image6.png" ContentType="image/png"/>
  <Override PartName="/ppt/media/image36.jpeg" ContentType="image/jpeg"/>
  <Override PartName="/ppt/media/image38.jpeg" ContentType="image/jpeg"/>
  <Override PartName="/ppt/media/image44.jpeg" ContentType="image/jpeg"/>
  <Override PartName="/ppt/media/image41.png" ContentType="image/png"/>
  <Override PartName="/ppt/media/image42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685440" y="1143000"/>
            <a:ext cx="5483160" cy="30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body"/>
          </p:nvPr>
        </p:nvSpPr>
        <p:spPr>
          <a:xfrm>
            <a:off x="685440" y="4400640"/>
            <a:ext cx="548316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112A49-53B1-439B-B9BD-503AF44DA2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F66745-96CB-4D4E-9E4E-79E11D6861D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29A840-FE42-4124-96A2-49998A17A74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79BCF0-1083-49F2-B780-EAB535ABB65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112087-6268-4C5E-846D-2FB9D92BC3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E5D704-D368-4E06-AC36-6173CF9612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576A8B-AFB3-437D-951F-3BA80E6FD7E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62930C-B840-47B2-8D5C-001FE1A96C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37415E-E79E-4BC0-A024-BD0F5D19E2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AC6B90-B156-4AD6-B0F7-6D885C93DA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85A3FF-0954-4CA7-8C8A-59873E7A6E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D69B9D-8DAC-4556-8267-3138322BBE9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DE5B85-6E0D-426A-B1BE-39F65A4644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E8DBF0-24A1-43BD-ABA0-D31976B5075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3522F1-E43B-4839-8AD4-54DF40E881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8676B5-135F-4527-A36A-C662D86BEE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6F276C-23D0-4965-BA7F-27D99A3B32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4F87FF-E390-456E-8312-44D42DB9905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D4582A-1604-41D4-9F42-AC143F7D42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D3FEDE-0E41-485E-BD4A-3AB73497485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FD6518-9F5C-4281-A7AA-652B11D6E16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6FEE19-5A59-41E2-B3EC-DA975C882D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DEFA92-F702-4D62-AE7F-F1D8C09B7DB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051FD2-9668-41FE-9EE9-8E0B41621CF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3FA20A-240D-4A18-96B0-97CC1783EF9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1720" cy="30844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CBBE54-A79D-48B1-8C41-A17610FC68D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796E7E-6316-4E83-8A52-84424465AD2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74993E-FC75-4FE7-98E4-47A84B0F850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46E255-F259-4DFF-8803-6A71FC8A9D0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DD8AC6-89B8-4174-9615-4B10FEFE395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663D51-520A-47FC-950D-08C07AF1CB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32396A-1ECB-4BC9-950B-A665B0F44E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1AA78C-8CF4-4407-8AA7-4110E730C01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37EEAE-181C-4C80-ADFD-A5B61E2E67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8E827F-9DA3-4349-ACD6-8AE68D63927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5E8BEE-8C00-413C-BC9E-D6BD2B2D8A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0840FA-246B-4A08-A5F1-E4C52759D0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B13F20-B247-4C15-98B0-7CD4085E9C6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DF665C-F9D4-4884-8DD9-8A4974B3CD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55D021-D6CF-4D4D-A1B5-D9F59A1D3E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5B7D-5F30-4CB6-899E-4DB49A733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2704-4009-4BAB-9B2B-0225AD68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C4EF8-0E7C-41A2-B517-BC8DFC1E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F6208-6D72-40C8-A83A-5A7451F9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86AE6-A3C0-41FB-89BD-1E41D186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EBC2C-6485-4A7A-9F93-A9062BC1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EB352-749D-4B03-9EBD-476F7972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F8CD0-2D5F-4526-8066-62F2FF89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90737-0614-46AA-84B7-C9CFA6EF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187E-74D8-42E5-A87D-66005925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73D45-3E0B-4069-9343-1A8C9A41D1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6F98-781F-4B5A-A6AE-E0B6EED5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0265-28D1-4B9C-BF54-35054B10A2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28EE-FA57-4FAD-A89C-A9887850E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F2736-0CE9-44AA-86C4-F98AFDF2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9FECB-A772-4B37-B126-2C2D0C3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9DE0F-1F6A-44E3-9DF6-01AE0D2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C6A27-AAB8-46BE-8638-B616472F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875BF-203F-4ADD-A708-8C0866B4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52D61-57FF-4145-BD00-18853060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31FA-D3A3-45CD-AB51-5082B90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A033E-8003-43FF-BC18-CEBD825E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0062D-9832-44C5-9EE2-6D133686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91910-34B6-4297-9486-37A3ACAC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47CE0-E88F-4544-A65D-D897080C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28278-4BB8-47F5-8202-681A01EC9F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146-8C7B-45A5-A88E-9392B752F7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49B9-AB09-4A23-A825-E959D388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5E94-F55A-47D8-8AB7-7FD651FC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9581-6FB6-4A17-BCC0-4F2CB6DB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B113-88B4-475B-9961-5C1EDF74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A5B4-397E-4D60-9674-542B3E13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0125-F096-4D4D-AAC1-6F37663E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F61B-8CBE-4DC6-AB55-CAF466C5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2FC7-61EA-4295-B983-37AABF4A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F9EC-24E2-4FA9-8908-4F615796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1FAD-F007-4BC6-A139-F72253C5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CC32-8473-4969-9B87-CDE4277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7A25-3F1E-413A-88F2-223503B08E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69471-B882-450D-B8A5-7DFCC42B61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0E1BF-F153-4FD7-81DA-0467F522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F385F-7CAF-458B-90AB-7C4A2B28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ED8C-715D-4139-B6F9-5D59FC41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2C6E7-875F-4727-9A67-4F9AE98A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7993B-7DC2-4CDE-968B-67DA0137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F99E4-8108-47B8-B6F9-0C7DC0FA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DD2FB-25FB-489A-899D-666AE30A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A8943-7861-4CE4-8F6F-BCF6DAB9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91202-E515-47DD-B335-7FAB5593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9C914-1D2E-4948-A5E6-3EA34F51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A0635-4B5F-4660-8B8B-7649E86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D5F61-05E2-4E64-A560-F09D4AB635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8D37C7-1567-4AEA-B291-9CB1D39D4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390B-1634-41F4-B53A-29F463D1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12AE1-2963-41A5-8B53-87B6D213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B324F-3F3E-4392-AFFE-E72F707C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ABAC7-021F-4DDF-A167-8571A062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9B2A2-3FB6-42B6-B8E5-AA2F0221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309A2-3BB0-4728-AAAC-FB91E127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5EB85-5FD1-438A-8796-221EAA7F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2571B-A347-4C67-B72A-D096DFC8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9E9EA-CD89-4670-9C3E-9B3C1E85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85693-3079-47E4-BB1D-3FB08E2A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F8FAED-8B86-4216-9472-5D50FB9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672AB-A555-43BD-965E-DA52A6E7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4DC6D-EF49-4F81-B6BA-7F561D7AFA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08DD-40A2-4CE6-8F03-625283D99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9498-602B-4DB0-8766-389F766C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8E0E3-8D44-4E70-96AB-8328AC2C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3AC3-7BAE-413B-A11B-0BFEF16A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CEA19-DE25-46A8-ADAE-F3266B53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D712-50AE-4E0C-BA99-0AAB64FF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FF9F-1EC9-40F2-8222-58C5AAC7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7006-E7D5-4F50-85F1-A2442566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4D6D-792A-4416-93FE-6C1AD95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58BF-E2F8-4829-8F72-3602C230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2F86-4ACA-4DAF-9BE9-258AC5CE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E719-7F5E-4A66-99CC-9A63321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BB35-74C2-47A5-93BC-A410A271EB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FE420-80A3-45EB-8E47-AD54E898A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EDC2E-E58E-424F-AD5C-B9DCAA02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0A851-F46B-495A-9B2C-62E96FD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1A945-5E27-4921-9D89-FF9E664D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0D002-313E-48E4-A8CB-5BD9A91C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DABBC-2002-4B2C-8436-A1B93375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791B9-E132-4BB3-935D-A9AA3BFF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C695-A97C-4F85-91BA-3CAAD402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BECB2-0284-41DB-B457-90415C7B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4E49A-055D-447F-9891-A142BEAF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24EB7-D525-40D8-A34B-26AA562E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8D67F-648D-4127-9020-1571BA42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94C9C-DF90-40FB-B78D-D7259A7F4E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79E991-CE9D-4E6F-804B-5F3674499B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5C07CA-08CC-434A-B98B-94DBDD1C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E894DB-7192-4C72-B1A0-DF1EF907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D3207B-9C7D-4B22-A4B6-D887DE9A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635189-7B11-41A4-8B67-DE142A72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D98F-0437-4385-8495-3756BC81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685CF9-755E-4747-B50D-E5E7DF94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350205-FFEE-49C1-9EBE-0AEE9526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DAE974-8197-4AD2-8C25-75EBBB98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F8D0FF-6B37-4853-B52B-85DE71B9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6F6DFC-D519-4C71-B040-52D7D978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D967C5-B2E5-4ADD-9B0A-F3CB45C5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F84BD3-DA06-49E7-8DFE-AA2633B0AC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885AD-B907-481F-AA3E-D469AF33F3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F68B3-2605-498A-A020-F217E71D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B64B-6DDD-4517-92AC-73211DAF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AD8652-279D-4EF7-BDC3-81363D233563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3998880"/>
            <a:ext cx="8640720" cy="20520"/>
            <a:chOff x="506520" y="3998880"/>
            <a:chExt cx="8640720" cy="205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998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1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351531-8D71-4593-9AB7-FBC6142F58FB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57240"/>
            <a:ext cx="2895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803F5D-36B3-46B5-B989-58EE36FD948E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2571840"/>
            <a:ext cx="8640720" cy="21960"/>
            <a:chOff x="506520" y="2571840"/>
            <a:chExt cx="8640720" cy="2196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2571840"/>
              <a:ext cx="864072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3C2513-5399-4066-8F65-D1DBD434CE86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4505400"/>
            <a:ext cx="8640720" cy="20520"/>
            <a:chOff x="506520" y="4505400"/>
            <a:chExt cx="8640720" cy="2052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5054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4514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4857480"/>
            <a:ext cx="7588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A160F6-BAE5-4B5C-82BB-71272488798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A464E1-116B-404C-BC2D-A67CB1966CE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4376880"/>
            <a:ext cx="8640720" cy="20520"/>
            <a:chOff x="506520" y="4376880"/>
            <a:chExt cx="8640720" cy="205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376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438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73BDC3-ACD1-47C7-97B8-04D219C71D87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2F0F48-32E1-43A1-AF8F-C8E17524DCD3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9F2A0D-6672-42C2-845B-051CA78572D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2"/>
          <a:stretch/>
        </p:blipFill>
        <p:spPr>
          <a:xfrm>
            <a:off x="438120" y="1554120"/>
            <a:ext cx="7950240" cy="14335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"/>
          <p:cNvSpPr/>
          <p:nvPr/>
        </p:nvSpPr>
        <p:spPr>
          <a:xfrm>
            <a:off x="1911240" y="3525840"/>
            <a:ext cx="5648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2"/>
          <p:cNvSpPr/>
          <p:nvPr/>
        </p:nvSpPr>
        <p:spPr>
          <a:xfrm>
            <a:off x="0" y="0"/>
            <a:ext cx="4211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95280" y="1779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Вредные привычки </a:t>
            </a: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причина заболеваний центральной нервной системы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4211640" y="0"/>
            <a:ext cx="514332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3"/>
          <a:stretch/>
        </p:blipFill>
        <p:spPr>
          <a:xfrm>
            <a:off x="-14400" y="-839880"/>
            <a:ext cx="9158400" cy="610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3"/>
          <a:stretch/>
        </p:blipFill>
        <p:spPr>
          <a:xfrm>
            <a:off x="-36360" y="-358920"/>
            <a:ext cx="9180360" cy="553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2"/>
          <p:cNvSpPr/>
          <p:nvPr/>
        </p:nvSpPr>
        <p:spPr>
          <a:xfrm>
            <a:off x="468360" y="1492200"/>
            <a:ext cx="3887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 действие никотина на центральную нервную систему выражается вначале в её возбуждении, а затем в угнетении. 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676760" y="4280040"/>
            <a:ext cx="40845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Segoe UI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3"/>
          <a:stretch/>
        </p:blipFill>
        <p:spPr>
          <a:xfrm>
            <a:off x="4676760" y="195120"/>
            <a:ext cx="4084560" cy="408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3"/>
          <a:stretch/>
        </p:blipFill>
        <p:spPr>
          <a:xfrm>
            <a:off x="4000680" y="-144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3"/>
          <p:cNvSpPr/>
          <p:nvPr/>
        </p:nvSpPr>
        <p:spPr>
          <a:xfrm>
            <a:off x="-66600" y="-11160"/>
            <a:ext cx="4067280" cy="5143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39640" y="1276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egoe UI"/>
                <a:ea typeface="Times New Roman"/>
              </a:rPr>
              <a:t>Курящие люди становятся раздражительными и легковозбудимыми, у них наруша­ется сон, аппетит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3"/>
          <a:stretch/>
        </p:blipFill>
        <p:spPr>
          <a:xfrm>
            <a:off x="-181080" y="-25560"/>
            <a:ext cx="10542600" cy="527220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181080" y="771480"/>
            <a:ext cx="5545080" cy="280836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95280" y="1203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едко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никают расстройства памяти, головные боли, бессонница, дрожание рук, снижается работоспособность, ухудшается настроение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4572000" y="1119240"/>
            <a:ext cx="3975120" cy="40323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4"/>
          <a:stretch/>
        </p:blipFill>
        <p:spPr>
          <a:xfrm>
            <a:off x="1173240" y="2643120"/>
            <a:ext cx="2555640" cy="194940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4"/>
          <p:cNvGrpSpPr/>
          <p:nvPr/>
        </p:nvGrpSpPr>
        <p:grpSpPr>
          <a:xfrm>
            <a:off x="1303200" y="1119240"/>
            <a:ext cx="4849920" cy="1344600"/>
            <a:chOff x="1303200" y="1119240"/>
            <a:chExt cx="4849920" cy="1344600"/>
          </a:xfrm>
        </p:grpSpPr>
        <p:pic>
          <p:nvPicPr>
            <p:cNvPr id="475" name="Picture 5" descr=""/>
            <p:cNvPicPr/>
            <p:nvPr/>
          </p:nvPicPr>
          <p:blipFill>
            <a:blip r:embed="rId5"/>
            <a:stretch/>
          </p:blipFill>
          <p:spPr>
            <a:xfrm>
              <a:off x="1303200" y="1119240"/>
              <a:ext cx="196236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6"/>
            <p:cNvSpPr/>
            <p:nvPr/>
          </p:nvSpPr>
          <p:spPr>
            <a:xfrm>
              <a:off x="3132000" y="1724040"/>
              <a:ext cx="30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этанол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 flipH="1">
              <a:off x="2414520" y="2160720"/>
              <a:ext cx="1005120" cy="10296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2"/>
          <p:cNvSpPr/>
          <p:nvPr/>
        </p:nvSpPr>
        <p:spPr>
          <a:xfrm>
            <a:off x="2600280" y="771480"/>
            <a:ext cx="39434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Утрачивается разумный контроль над поступками, снижается критическое отношение к себе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Механизм воздействия алкоголя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4427640" y="2257560"/>
            <a:ext cx="431640" cy="647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2673360" y="3076560"/>
            <a:ext cx="39416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"/>
                <a:ea typeface="Segoe UI"/>
              </a:rPr>
              <a:t>Угнетение тормозных процессов в коре головного мозга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"/>
          <p:cNvPicPr/>
          <p:nvPr/>
        </p:nvPicPr>
        <p:blipFill>
          <a:blip r:embed="rId3"/>
          <a:stretch/>
        </p:blipFill>
        <p:spPr>
          <a:xfrm>
            <a:off x="1440" y="-812880"/>
            <a:ext cx="9142560" cy="608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3"/>
          <a:stretch/>
        </p:blipFill>
        <p:spPr>
          <a:xfrm>
            <a:off x="-20520" y="-523800"/>
            <a:ext cx="9180360" cy="612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tretch/>
        </p:blipFill>
        <p:spPr>
          <a:xfrm>
            <a:off x="1692360" y="385920"/>
            <a:ext cx="1820880" cy="4371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tretch/>
        </p:blipFill>
        <p:spPr>
          <a:xfrm>
            <a:off x="4356000" y="771480"/>
            <a:ext cx="3627360" cy="35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3"/>
          <a:stretch/>
        </p:blipFill>
        <p:spPr>
          <a:xfrm>
            <a:off x="0" y="-6681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"/>
          <p:cNvPicPr/>
          <p:nvPr/>
        </p:nvPicPr>
        <p:blipFill>
          <a:blip r:embed="rId3"/>
          <a:stretch/>
        </p:blipFill>
        <p:spPr>
          <a:xfrm>
            <a:off x="2820960" y="1241280"/>
            <a:ext cx="3311640" cy="3567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4"/>
          <a:stretch/>
        </p:blipFill>
        <p:spPr>
          <a:xfrm>
            <a:off x="3397320" y="268200"/>
            <a:ext cx="2482920" cy="194796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4"/>
          <p:cNvGrpSpPr/>
          <p:nvPr/>
        </p:nvGrpSpPr>
        <p:grpSpPr>
          <a:xfrm>
            <a:off x="5052600" y="538200"/>
            <a:ext cx="3890880" cy="1166760"/>
            <a:chOff x="5052600" y="538200"/>
            <a:chExt cx="3890880" cy="1166760"/>
          </a:xfrm>
        </p:grpSpPr>
        <p:sp>
          <p:nvSpPr>
            <p:cNvPr id="495" name="Text Box 5"/>
            <p:cNvSpPr/>
            <p:nvPr/>
          </p:nvSpPr>
          <p:spPr>
            <a:xfrm>
              <a:off x="5919840" y="5382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итательные веществ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 flipH="1">
              <a:off x="5052600" y="1012680"/>
              <a:ext cx="2151720" cy="69228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97" name="Group 7"/>
          <p:cNvGrpSpPr/>
          <p:nvPr/>
        </p:nvGrpSpPr>
        <p:grpSpPr>
          <a:xfrm>
            <a:off x="1138320" y="914400"/>
            <a:ext cx="3020760" cy="381960"/>
            <a:chOff x="1138320" y="914400"/>
            <a:chExt cx="3020760" cy="381960"/>
          </a:xfrm>
        </p:grpSpPr>
        <p:sp>
          <p:nvSpPr>
            <p:cNvPr id="498" name="Text Box 8"/>
            <p:cNvSpPr/>
            <p:nvPr/>
          </p:nvSpPr>
          <p:spPr>
            <a:xfrm>
              <a:off x="1138320" y="914400"/>
              <a:ext cx="30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кислород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1676520" y="1204560"/>
              <a:ext cx="2130480" cy="9180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1187280" y="836640"/>
            <a:ext cx="2835360" cy="3940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4"/>
          <a:stretch/>
        </p:blipFill>
        <p:spPr>
          <a:xfrm>
            <a:off x="4859280" y="773280"/>
            <a:ext cx="292572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Инсульт может привести к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2627280" y="2139840"/>
            <a:ext cx="4572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оме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араличам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ям интеллекта или памяти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мерти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452520" y="1131840"/>
            <a:ext cx="38163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е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ового кровообращения или гибель нервных клеток из-за сдавливания может произойти в результате заболеваний, связанных с </a:t>
            </a: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опухолями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3"/>
          <a:stretch/>
        </p:blipFill>
        <p:spPr>
          <a:xfrm>
            <a:off x="4721400" y="0"/>
            <a:ext cx="4422600" cy="593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Опухоль головного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едполагаемые причины возникновения опухолей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2627280" y="2139840"/>
            <a:ext cx="457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винилхлорид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аспартам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действие электромагнитных поле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3"/>
          <a:stretch/>
        </p:blipFill>
        <p:spPr>
          <a:xfrm>
            <a:off x="144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3"/>
          <a:stretch/>
        </p:blipFill>
        <p:spPr>
          <a:xfrm>
            <a:off x="0" y="-380880"/>
            <a:ext cx="9180360" cy="612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3"/>
          <a:stretch/>
        </p:blipFill>
        <p:spPr>
          <a:xfrm>
            <a:off x="-36360" y="-853920"/>
            <a:ext cx="9180360" cy="61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1"/>
          <a:stretch/>
        </p:blipFill>
        <p:spPr>
          <a:xfrm>
            <a:off x="1353960" y="14112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3"/>
          <a:stretch/>
        </p:blipFill>
        <p:spPr>
          <a:xfrm>
            <a:off x="-25560" y="-36360"/>
            <a:ext cx="9169560" cy="60973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539640" y="555480"/>
            <a:ext cx="4572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Лёгкое сотрясение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головного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а может проявляться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сонливостью, вялостью и тошното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2"/>
          <p:cNvSpPr/>
          <p:nvPr/>
        </p:nvSpPr>
        <p:spPr>
          <a:xfrm>
            <a:off x="2709720" y="195120"/>
            <a:ext cx="4281480" cy="105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знаки сотрясения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709720" y="1419120"/>
            <a:ext cx="457200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отеря сознания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вота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етроградная амнезия </a:t>
            </a:r>
            <a:r>
              <a:rPr b="0" i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(когда человек не может вспомнить события, предшествующие травме)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2"/>
          <p:cNvSpPr/>
          <p:nvPr/>
        </p:nvSpPr>
        <p:spPr>
          <a:xfrm>
            <a:off x="395280" y="771480"/>
            <a:ext cx="352908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 сотрясении головного мозга или его ушибе в первую очередь необходимо: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уложить на кровать или кушетку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ложить на лоб тряпочку, смоченную холодной водой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медленно доставить пострадавшего в больницу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3"/>
          <a:stretch/>
        </p:blipFill>
        <p:spPr>
          <a:xfrm>
            <a:off x="4211640" y="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"/>
          <p:cNvPicPr/>
          <p:nvPr/>
        </p:nvPicPr>
        <p:blipFill>
          <a:blip r:embed="rId3"/>
          <a:stretch/>
        </p:blipFill>
        <p:spPr>
          <a:xfrm>
            <a:off x="1763640" y="771480"/>
            <a:ext cx="5045040" cy="4089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0" y="0"/>
            <a:ext cx="91616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Ушиб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"/>
          <p:cNvSpPr/>
          <p:nvPr/>
        </p:nvSpPr>
        <p:spPr>
          <a:xfrm>
            <a:off x="431640" y="1635120"/>
            <a:ext cx="4572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вная система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это одна из самых важных систем организма, которая отвечает за действие и координацию всех систем и органов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3"/>
          <a:stretch/>
        </p:blipFill>
        <p:spPr>
          <a:xfrm>
            <a:off x="5003640" y="184320"/>
            <a:ext cx="322920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"/>
          <p:cNvPicPr/>
          <p:nvPr/>
        </p:nvPicPr>
        <p:blipFill>
          <a:blip r:embed="rId3"/>
          <a:stretch/>
        </p:blipFill>
        <p:spPr>
          <a:xfrm>
            <a:off x="0" y="-1652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-7920" y="-401760"/>
            <a:ext cx="9151920" cy="610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"/>
          <p:cNvPicPr/>
          <p:nvPr/>
        </p:nvPicPr>
        <p:blipFill>
          <a:blip r:embed="rId3"/>
          <a:stretch/>
        </p:blipFill>
        <p:spPr>
          <a:xfrm>
            <a:off x="0" y="-45252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-324000" y="123840"/>
            <a:ext cx="5904000" cy="23763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900000" y="411120"/>
            <a:ext cx="4572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офилактика заболеваний нервной системы должна занимать не последнее место в жизни каждого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2"/>
          <p:cNvSpPr/>
          <p:nvPr/>
        </p:nvSpPr>
        <p:spPr>
          <a:xfrm>
            <a:off x="2625840" y="361800"/>
            <a:ext cx="42796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офилактика заболевани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611440" y="1527120"/>
            <a:ext cx="45720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равильное питание и здоровый образ жизни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отказ от вредных привычек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использование необходимых средств защиты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воевременное лечение на ранних стадиях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2"/>
          <p:cNvGrpSpPr/>
          <p:nvPr/>
        </p:nvGrpSpPr>
        <p:grpSpPr>
          <a:xfrm>
            <a:off x="573120" y="1893960"/>
            <a:ext cx="3182760" cy="1828800"/>
            <a:chOff x="573120" y="1893960"/>
            <a:chExt cx="3182760" cy="1828800"/>
          </a:xfrm>
        </p:grpSpPr>
        <p:sp>
          <p:nvSpPr>
            <p:cNvPr id="416" name="Line 3"/>
            <p:cNvSpPr/>
            <p:nvPr/>
          </p:nvSpPr>
          <p:spPr>
            <a:xfrm flipH="1">
              <a:off x="2303280" y="1893960"/>
              <a:ext cx="1292040" cy="9763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17" name="AutoShape 4"/>
            <p:cNvSpPr/>
            <p:nvPr/>
          </p:nvSpPr>
          <p:spPr>
            <a:xfrm>
              <a:off x="573120" y="2863800"/>
              <a:ext cx="318276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ождённые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18" name="Group 5"/>
          <p:cNvGrpSpPr/>
          <p:nvPr/>
        </p:nvGrpSpPr>
        <p:grpSpPr>
          <a:xfrm>
            <a:off x="5432400" y="1792440"/>
            <a:ext cx="3005280" cy="1871640"/>
            <a:chOff x="5432400" y="1792440"/>
            <a:chExt cx="3005280" cy="1871640"/>
          </a:xfrm>
        </p:grpSpPr>
        <p:sp>
          <p:nvSpPr>
            <p:cNvPr id="419" name="AutoShape 6"/>
            <p:cNvSpPr/>
            <p:nvPr/>
          </p:nvSpPr>
          <p:spPr>
            <a:xfrm>
              <a:off x="5432400" y="2803680"/>
              <a:ext cx="3005280" cy="86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риобретённые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20" name="Line 7"/>
            <p:cNvSpPr/>
            <p:nvPr/>
          </p:nvSpPr>
          <p:spPr>
            <a:xfrm>
              <a:off x="5560920" y="1792440"/>
              <a:ext cx="1292400" cy="10047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21" name="AutoShape 8"/>
          <p:cNvSpPr/>
          <p:nvPr/>
        </p:nvSpPr>
        <p:spPr>
          <a:xfrm>
            <a:off x="2763720" y="1338120"/>
            <a:ext cx="352908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оражение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539640" y="339840"/>
            <a:ext cx="32403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4" name="Rectangle 3"/>
          <p:cNvSpPr/>
          <p:nvPr/>
        </p:nvSpPr>
        <p:spPr>
          <a:xfrm>
            <a:off x="687240" y="3286080"/>
            <a:ext cx="763272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5c8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4"/>
          <a:stretch/>
        </p:blipFill>
        <p:spPr>
          <a:xfrm>
            <a:off x="684360" y="3292560"/>
            <a:ext cx="1557360" cy="15573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2409840" y="3413160"/>
            <a:ext cx="57405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 Semibold"/>
                <a:ea typeface="Times New Roman"/>
              </a:rPr>
              <a:t>Гидроцефалия </a:t>
            </a:r>
            <a:r>
              <a:rPr b="0" lang="ru-RU" sz="1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–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Segoe UI"/>
              </a:rPr>
              <a:t>увеличение объёма мозга из-за нарушения оттока из него спинномозговой жидкости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5"/>
          <a:stretch/>
        </p:blipFill>
        <p:spPr>
          <a:xfrm>
            <a:off x="4427640" y="268200"/>
            <a:ext cx="353376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1042920" y="3363840"/>
            <a:ext cx="69850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цефал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доразвитие мозга, когда его масса не достигает 1 кг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2987640" y="627120"/>
            <a:ext cx="36720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2"/>
          <p:cNvGrpSpPr/>
          <p:nvPr/>
        </p:nvGrpSpPr>
        <p:grpSpPr>
          <a:xfrm>
            <a:off x="880920" y="192240"/>
            <a:ext cx="2608200" cy="1439280"/>
            <a:chOff x="880920" y="192240"/>
            <a:chExt cx="2608200" cy="1439280"/>
          </a:xfrm>
        </p:grpSpPr>
        <p:sp>
          <p:nvSpPr>
            <p:cNvPr id="434" name="Line 3"/>
            <p:cNvSpPr/>
            <p:nvPr/>
          </p:nvSpPr>
          <p:spPr>
            <a:xfrm flipH="1" flipV="1">
              <a:off x="2267280" y="672480"/>
              <a:ext cx="1221840" cy="95904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880920" y="192240"/>
              <a:ext cx="2244960" cy="108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Инфекционные заболевания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6" name="Group 5"/>
          <p:cNvGrpSpPr/>
          <p:nvPr/>
        </p:nvGrpSpPr>
        <p:grpSpPr>
          <a:xfrm>
            <a:off x="5219640" y="239760"/>
            <a:ext cx="2373480" cy="1535760"/>
            <a:chOff x="5219640" y="239760"/>
            <a:chExt cx="2373480" cy="1535760"/>
          </a:xfrm>
        </p:grpSpPr>
        <p:sp>
          <p:nvSpPr>
            <p:cNvPr id="437" name="Line 6"/>
            <p:cNvSpPr/>
            <p:nvPr/>
          </p:nvSpPr>
          <p:spPr>
            <a:xfrm flipV="1">
              <a:off x="5610240" y="673560"/>
              <a:ext cx="1074600" cy="11019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8" name="AutoShape 7"/>
            <p:cNvSpPr/>
            <p:nvPr/>
          </p:nvSpPr>
          <p:spPr>
            <a:xfrm>
              <a:off x="5219640" y="239760"/>
              <a:ext cx="2373480" cy="10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Сотрясения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головного мозг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9" name="Group 8"/>
          <p:cNvGrpSpPr/>
          <p:nvPr/>
        </p:nvGrpSpPr>
        <p:grpSpPr>
          <a:xfrm>
            <a:off x="1006560" y="3076560"/>
            <a:ext cx="2407680" cy="1724040"/>
            <a:chOff x="1006560" y="3076560"/>
            <a:chExt cx="2407680" cy="1724040"/>
          </a:xfrm>
        </p:grpSpPr>
        <p:sp>
          <p:nvSpPr>
            <p:cNvPr id="440" name="Line 9"/>
            <p:cNvSpPr/>
            <p:nvPr/>
          </p:nvSpPr>
          <p:spPr>
            <a:xfrm flipH="1">
              <a:off x="2303280" y="3076560"/>
              <a:ext cx="1110960" cy="100980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1" name="AutoShape 10"/>
            <p:cNvSpPr/>
            <p:nvPr/>
          </p:nvSpPr>
          <p:spPr>
            <a:xfrm>
              <a:off x="1006560" y="3746520"/>
              <a:ext cx="2333520" cy="105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едные привычки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42" name="Group 11"/>
          <p:cNvGrpSpPr/>
          <p:nvPr/>
        </p:nvGrpSpPr>
        <p:grpSpPr>
          <a:xfrm>
            <a:off x="5468760" y="3032280"/>
            <a:ext cx="2772000" cy="1676160"/>
            <a:chOff x="5468760" y="3032280"/>
            <a:chExt cx="2772000" cy="1676160"/>
          </a:xfrm>
        </p:grpSpPr>
        <p:sp>
          <p:nvSpPr>
            <p:cNvPr id="443" name="Line 12"/>
            <p:cNvSpPr/>
            <p:nvPr/>
          </p:nvSpPr>
          <p:spPr>
            <a:xfrm>
              <a:off x="5508720" y="3032280"/>
              <a:ext cx="1251000" cy="10825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4" name="AutoShape 13"/>
            <p:cNvSpPr/>
            <p:nvPr/>
          </p:nvSpPr>
          <p:spPr>
            <a:xfrm>
              <a:off x="5468760" y="3774960"/>
              <a:ext cx="2772000" cy="93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Разрывы периферических нервов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2535120" y="1585800"/>
            <a:ext cx="3989520" cy="170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обретённые заболевания центрально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"/>
          <p:cNvSpPr/>
          <p:nvPr/>
        </p:nvSpPr>
        <p:spPr>
          <a:xfrm>
            <a:off x="531720" y="1380960"/>
            <a:ext cx="457200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 инфекционным</a:t>
            </a:r>
            <a:endParaRPr b="0" lang="en-US" sz="2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болезням относятся менингит, энцефалит, корь, ветрянка, свинка, герпес, краснуха, бешенство, полиомиелит и многие другие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5602320" y="0"/>
            <a:ext cx="3541680" cy="629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01:35Z</dcterms:created>
  <dc:creator>Пользователь</dc:creator>
  <dc:description/>
  <dc:language>en-US</dc:language>
  <cp:lastModifiedBy>Роман</cp:lastModifiedBy>
  <dcterms:modified xsi:type="dcterms:W3CDTF">2023-10-31T08:30:37Z</dcterms:modified>
  <cp:revision>1250</cp:revision>
  <dc:subject/>
  <dc:title>Презентация PowerPoint</dc:title>
</cp:coreProperties>
</file>